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DCD4-FF89-4F08-8D24-34812C6E9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0578-E513-454A-BABF-D01494EFB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0C84-D5F9-4B72-AA1B-7F2A4D935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9FF5-C3F3-4A32-9217-00685272D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B0C2-4FF8-472F-93DC-83ECF03C9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FABB-BEBE-4CD1-B604-FCC5326C7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C106-F66E-47BC-AB1A-653390D36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7B8F-7576-45D2-B793-8907B9D0D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6DCE-6EA4-4F20-B3E1-F0C69204D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5E4E-1A80-45B4-8BE7-A19C43C58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47E7-CB1C-422F-BC2C-673F0178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C271-05E3-494D-997C-72C96D7B7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756-2810-40E1-B6C7-3CDF3476F3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121-BDC1-4E53-99A3-87189CC0BB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877-AA6E-416C-A92E-D56DEBE72B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olutions from the Math Congress,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B9B-2E9F-4F85-BD1D-79A57E3E49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engage in the Math Congres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1BC-9670-4F96-ADF3-C13E776548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4A51-8F86-4928-9627-1CFE7C471C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4920" y="41148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ccess criteria which would help you provide descriptive feedback over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D91-4EDF-4E67-80DD-042756BFE8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30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x3 grid of squares wit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429000" y="1295280"/>
            <a:ext cx="1143000" cy="990720"/>
            <a:chOff x="3429000" y="1295280"/>
            <a:chExt cx="1143000" cy="990720"/>
          </a:xfrm>
        </p:grpSpPr>
        <p:sp>
          <p:nvSpPr>
            <p:cNvPr id="132" name=""/>
            <p:cNvSpPr/>
            <p:nvPr/>
          </p:nvSpPr>
          <p:spPr>
            <a:xfrm>
              <a:off x="342900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625400"/>
              <a:ext cx="380880" cy="33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988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4B6-5839-44D9-B7DC-D35C805D6B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Clapping Activity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F65-6B17-4644-BCC9-35EF7E732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916F-8ECF-456C-A878-A50720CD8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65" name="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75" name="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Math Congress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5A9-5925-4C57-B303-87AE120296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264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3653-DE34-409B-B499-EFA8969F69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Triangle Do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01B-5653-4754-92CA-44F4BB9EF6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velop success criteria which will be used to provide descriptive feedback over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9889-EC3C-49B0-B3B1-3F995BA01A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5461-1026-456F-B1AE-D4848C77FA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Mary</cp:lastModifiedBy>
  <dcterms:modified xsi:type="dcterms:W3CDTF">2011-08-08T21:29:06Z</dcterms:modified>
  <cp:revision>73</cp:revision>
  <dc:subject/>
  <dc:title>&lt;Title&gt;</dc:title>
</cp:coreProperties>
</file>